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32D-D8AF-4BC1-B414-EACB19C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855-F76D-4E1D-BE5D-8971642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44D-75F3-4007-819F-5290AE0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FDA-2A7A-40E1-8598-7A06025B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76C1-BBAC-41EB-BF79-C158AB90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7DCD-BD98-46DF-8AFB-4A70783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604-BD0E-4A95-BCF0-A2D82B5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C7E7-BAED-430C-AAF6-A82F059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772B-3DD5-4C86-984D-4BB2C32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769160" cy="89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98B-DC7E-47A2-8A89-A1AAD68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766-D499-4D20-AC9D-4829AFF9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E06-C113-49BC-B7C5-3B4B698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E72-C7BA-4EBE-ADAC-68C7E580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0867-592A-4C0E-9132-8FBAB7C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F07-0F40-4227-B432-123A9EFB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DB68-4630-4D16-B63B-5FA800F1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B342-F194-4F91-A3A3-9C8E237B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542-C194-4C42-93A2-334F1D9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E10-CA78-41F3-9BDD-DB6F5B1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4EE-2D85-4E81-AB13-4C185246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769160" cy="89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671-78FC-4B71-8AE5-FAADA0B4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90C-C2BC-412C-B9CA-93ADCDD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6C4-C540-4DEB-AA7B-4DADE017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AAD-55A9-4296-BDD6-17D4202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73907-4B5B-451A-9B50-B2C6D7F93A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45FE2-F875-41F5-ABCF-8A9BEF40E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440" y="1219320"/>
            <a:ext cx="77691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Berylium"/>
              </a:rPr>
              <a:t>Information Literacy Les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62160" y="5638320"/>
            <a:ext cx="5181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di Ledebo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Arial"/>
              </a:rPr>
              <a:t>Plagiar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esson goes along with a research project on a famous scientist. We will start the lesson by discussing plagiarism, what it means, why it is so bad, and ways to avoid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300" spc="-1" strike="noStrike">
                <a:solidFill>
                  <a:srgbClr val="9933ff"/>
                </a:solidFill>
                <a:latin typeface="Arial"/>
              </a:rPr>
              <a:t>Note-taking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520" y="2514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then read two separate articles on bullying and fill in a note-taking graphic organizer to answer the questions: what is bullying, why do kids bully, and what are the sig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700" spc="-1" strike="noStrike">
                <a:solidFill>
                  <a:srgbClr val="9933ff"/>
                </a:solidFill>
                <a:latin typeface="Arial"/>
              </a:rPr>
              <a:t>Evaluation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2590920"/>
            <a:ext cx="8534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part of their original research project, students will be required to fill in a note-taking graphic organizer answering the questions about their famous scienti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20:29:08Z</dcterms:created>
  <dc:creator>jledeboer</dc:creator>
  <dc:description/>
  <dc:language>en-US</dc:language>
  <cp:lastModifiedBy>jledeboer</cp:lastModifiedBy>
  <dcterms:modified xsi:type="dcterms:W3CDTF">2011-02-18T20:40:41Z</dcterms:modified>
  <cp:revision>2</cp:revision>
  <dc:subject/>
  <dc:title>Information Literacy Lesson</dc:title>
</cp:coreProperties>
</file>